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653-51F7-414E-8E4C-4E372288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9ED-BECB-4A0E-91E4-6B8640A5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D32-FE61-40DC-9203-25FF19E6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F25-0AEB-4068-B326-048DE312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17B-2C4E-4D15-B2AA-BC111368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9309-A73D-4BF1-9E2D-AFDE50AD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3EC-431F-4ECC-AE8D-E1CD907E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966A-4D66-4284-A7AA-92A563B5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A62-28B5-4204-8151-D160F2C2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0118-1AE6-4B86-8BBC-E6DE6005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9EF-6D88-42D6-82E0-A561387D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5CDD-A2F1-44D4-AE93-07536E4A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DA75-4733-4D7F-94B0-A42D32466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aningful and Authentic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arning to Solve Problems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513: Dr. Thie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2438280" y="3886200"/>
            <a:ext cx="4419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sciplinary Content an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experiment, observe results, modify or manipulate thei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–try new technologies &amp; teaching strategies &amp; see wha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j0305257"/>
          <p:cNvPicPr/>
          <p:nvPr/>
        </p:nvPicPr>
        <p:blipFill>
          <a:blip r:embed="rId1"/>
          <a:stretch/>
        </p:blipFill>
        <p:spPr>
          <a:xfrm>
            <a:off x="6172200" y="2666880"/>
            <a:ext cx="1897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stru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nstruct meaning by reflecting on their experience, and developing new schema to accommodate discrepant information; organizing information; considering alternatives; developing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  Backwards Curriculum Design; Enduring Understanding, Essential Questions  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en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actively engaged in intentional decision making:  goal; strategies;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reflect on thei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: choose the topic &amp; curriculum standards for your mini unit; design lessons &amp; assess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uthe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knowledge &amp; skills through real world tasks, problem based learning in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, mess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unit/lesson design are at heart of what teacher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j0335112"/>
          <p:cNvPicPr/>
          <p:nvPr/>
        </p:nvPicPr>
        <p:blipFill>
          <a:blip r:embed="rId1"/>
          <a:stretch/>
        </p:blipFill>
        <p:spPr>
          <a:xfrm>
            <a:off x="1371600" y="1981080"/>
            <a:ext cx="2314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operative/Convers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ork collaboratively in groups, develop multiple perspectives &amp; solutions; audience beyond the classroom or school; substantive oral, written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: working in teams to develop mini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j0233018"/>
          <p:cNvPicPr/>
          <p:nvPr/>
        </p:nvPicPr>
        <p:blipFill>
          <a:blip r:embed="rId1"/>
          <a:stretch/>
        </p:blipFill>
        <p:spPr>
          <a:xfrm>
            <a:off x="5380200" y="2556000"/>
            <a:ext cx="25747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isciplinary Content &amp;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: subject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ry genres, cause &amp; effect, number theory, properties of matter, chronology, historical evidence, scientific data, public issues, visual &amp; performing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: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or expository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3:04:40Z</dcterms:created>
  <dc:creator>thiemag</dc:creator>
  <dc:description/>
  <dc:language>en-US</dc:language>
  <cp:lastModifiedBy>Ben</cp:lastModifiedBy>
  <dcterms:modified xsi:type="dcterms:W3CDTF">2011-01-25T01:28:55Z</dcterms:modified>
  <cp:revision>5</cp:revision>
  <dc:subject/>
  <dc:title>Meaningful and Authentic Learning</dc:title>
</cp:coreProperties>
</file>